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15F3-609F-4510-AE57-7B44A41A63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EC89-B048-4974-8F92-1422379ACE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35AE-3162-4033-A298-C4B568B28E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5598-03F4-487A-9451-3673069673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1489-AAB0-4A12-8D28-3DD3A2DEF5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25D7-AC4D-44ED-A96C-AE6B8C62E8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DF25-CA64-492D-AE08-4CC43246C3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BC98-2CE4-4D5D-9A31-B46AF6E448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0463-32BC-4A33-A59B-4BF1A2FEF6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43507-B361-401F-A513-FBAECB35E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CD5BB-FC57-4EDC-9170-DDE43E0B6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366CF-0547-470E-908B-12BDEFBCA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1B52A-4937-4480-A720-D8C3F61D7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10DED-D7C0-4C24-BE0F-9D4D4B4F3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A4CEE-3038-4FE2-AF05-DC8E2E08B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2598-9730-46A3-BA98-C26FE3CB5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7EEAC-8E71-428D-8A87-7DD2401DA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21071-406E-4839-BF71-953774E9B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D4F0-50BF-41E1-95DB-D3A2EA9DD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1A8E1-1DBA-4385-B766-2B9CB166F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4E69-5906-477D-AC02-5C1AAF8A0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4A363-BCDF-414E-A600-B904BDD6AF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Linda Ruas</cp:lastModifiedBy>
  <dcterms:modified xsi:type="dcterms:W3CDTF">2013-08-15T18:43:32Z</dcterms:modified>
  <cp:revision>56</cp:revision>
  <dc:subject/>
  <dc:title>Protecting the planet from climate-change</dc:title>
</cp:coreProperties>
</file>